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301C-33DD-453E-8421-B268EA6D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379-D662-486D-A8D2-78D7416D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B8D-2F91-48F6-86E9-7AE24380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01E-BA78-4A37-A331-45F32EFB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00DA-DF62-4B9D-A26B-6931DF75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122F-C9AF-47BE-9498-292A319C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537B-E627-4122-9E52-D5525BB6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BE0A-03EE-408D-86CB-AEEE7BDE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0BD1-99AF-4D0C-A1C6-54A53F38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BC94-B5B0-4598-920A-A08C6570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E4CD-F017-4D7F-A220-6FE95A1E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F70-5FF4-46BC-B83F-5C47C8F7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3894-BC05-4AD8-BC7A-5BC092EA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97A8-E76D-4D63-BD15-39B6F48E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C9F5-B82E-4D96-AEA5-771F9971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FD29-2B85-4F4D-BDC1-82D6B84B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28EB-554D-4576-94D4-5B1BA265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D2BB-F816-4755-ACEA-E55C298B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C27-1C90-4395-A98A-2F4E1FDB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BFA-46F5-4D07-AD9A-3050F76D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D3C-A2E7-4227-9C61-9DD590E5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D1C-73F9-4BAF-B2BD-B0FBB97F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A62-C6D0-4C57-9B86-DBBC628A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F11E-5A2F-4999-8843-8B3F87CB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7B85-90B0-4F1E-BC3A-45B41D87378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5A4E-65A9-4F41-8780-71EEF24450D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1268280"/>
            <a:ext cx="856908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400" spc="-1" strike="noStrike">
                <a:solidFill>
                  <a:srgbClr val="ccecff"/>
                </a:solidFill>
                <a:latin typeface="Angsana New"/>
              </a:rPr>
              <a:t>การเตรียมความพร้อม</a:t>
            </a:r>
            <a:br>
              <a:rPr sz="4400"/>
            </a:br>
            <a:r>
              <a:rPr b="1" i="1" lang="hi-IN" sz="4400" spc="-1" strike="noStrike">
                <a:solidFill>
                  <a:srgbClr val="ccecff"/>
                </a:solidFill>
                <a:latin typeface="Angsana New"/>
              </a:rPr>
              <a:t>ในการเข้าร่วมโครงการประเมิน</a:t>
            </a:r>
            <a:br>
              <a:rPr sz="4400"/>
            </a:br>
            <a:r>
              <a:rPr b="1" i="1" lang="hi-IN" sz="4400" spc="-1" strike="noStrike">
                <a:solidFill>
                  <a:srgbClr val="ccecff"/>
                </a:solidFill>
                <a:latin typeface="Angsana New"/>
              </a:rPr>
              <a:t>การปฏิบัติตามมาตรฐานสากล</a:t>
            </a:r>
            <a:br>
              <a:rPr sz="4400"/>
            </a:br>
            <a:r>
              <a:rPr b="1" i="1" lang="hi-IN" sz="4400" spc="-1" strike="noStrike">
                <a:solidFill>
                  <a:srgbClr val="ccecff"/>
                </a:solidFill>
                <a:latin typeface="Angsana New"/>
              </a:rPr>
              <a:t>ด้านการป้องกันปราบปรามการฟอกเงิน</a:t>
            </a:r>
            <a:br>
              <a:rPr sz="4400"/>
            </a:br>
            <a:r>
              <a:rPr b="1" i="1" lang="hi-IN" sz="4400" spc="-1" strike="noStrike">
                <a:solidFill>
                  <a:srgbClr val="ccecff"/>
                </a:solidFill>
                <a:latin typeface="Angsana New"/>
              </a:rPr>
              <a:t>และ</a:t>
            </a:r>
            <a:br>
              <a:rPr sz="4400"/>
            </a:br>
            <a:r>
              <a:rPr b="1" i="1" lang="hi-IN" sz="4400" spc="-1" strike="noStrike">
                <a:solidFill>
                  <a:srgbClr val="ccecff"/>
                </a:solidFill>
                <a:latin typeface="Angsana New"/>
              </a:rPr>
              <a:t>การต่อต้านการสนับสนุนทางการเงินแก่การก่อการร้าย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1463760" y="4657680"/>
            <a:ext cx="1197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โด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พ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ต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อ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สีหนาท ประยูรรัตน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รองเลขาธิการคณะกรรมการป้องกันและปราบปรามการฟอกเงิ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ecff"/>
                </a:solidFill>
                <a:latin typeface="Arial"/>
              </a:rPr>
              <a:t>จบการนำเสน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Angsana New"/>
              </a:rPr>
              <a:t>พันตำรวจเอก สีหนาท ประยูรรัตน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</a:rPr>
              <a:t>snat@amlo.go.th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400" spc="-1" strike="noStrike">
                <a:solidFill>
                  <a:srgbClr val="ffffff"/>
                </a:solidFill>
                <a:latin typeface="Browallia New"/>
              </a:rPr>
              <a:t>โครงการประเมินการปฏิบัติตามมาตรฐานสากล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ngsana New"/>
              </a:rPr>
              <a:t>Reports on the Observance of Standards and Codes (ROSCs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60640" indent="-2606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วัตถุประสงค์เพื่อประเมินคุณภาพข้อมูลด้านต่างๆ ของประเทศที่</a:t>
            </a:r>
            <a:br>
              <a:rPr sz="3200"/>
            </a:b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เข้าร่วมโครงการว่าเป็นไปตามมาตรฐานสากลหรือไม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60640" indent="-2606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การปฏิบัติตามมาตรฐานสากล ทำให้นักลงทุนต่างประเทศ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และ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credit rating agencies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มีความมั่นใจในข้อมูลของ ประเทศไทย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60640" indent="-2606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ผลการประเมินทำให้ทราบข้อบกพร่องที่ควรปรับปรุง เพื่อเข้าสู่มาตรฐานที่สูงขึ้นในอนาค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400" spc="-1" strike="noStrike">
                <a:solidFill>
                  <a:srgbClr val="ffffff"/>
                </a:solidFill>
                <a:latin typeface="Arial"/>
              </a:rPr>
              <a:t>โครงการประเมินการปฏิบัติตามมาตรฐานสากล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27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คณะกรรมการบรรษัทภิบาลแห่งชาติ แต่งตั้งคณะอนุกรรมการ </a:t>
            </a:r>
            <a:r>
              <a:rPr b="1" lang="en-US" sz="2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6 </a:t>
            </a: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คณ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7600" indent="-3276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แก้ไขกฎหมายและการบังคับใช้กฎหมาย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7600" indent="-3276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มาตรฐานการบัญช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7600" indent="-3276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พิจารณาแนวทางปฏิบัติที่ดีของบริษัทจดทะเบีย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7600" indent="-3276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ยกระดับ </a:t>
            </a:r>
            <a:r>
              <a:rPr b="1" lang="en-US" sz="2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Corporate Governance </a:t>
            </a: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ด้านธนาคารพาณิชย์ บริษัทเงินทุน และบริษัทประกันภัย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7600" indent="-3276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ยกระดับ </a:t>
            </a:r>
            <a:r>
              <a:rPr b="1" lang="en-US" sz="2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Corporate Governance </a:t>
            </a: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ด้านบริษัทหลักทรัพย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7600" indent="-3276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สร้างความรู้ความเข้าใจและประชาสัมพันธ์การดำเนินการเกี่ยวกับ</a:t>
            </a:r>
            <a:r>
              <a:rPr b="1" lang="en-US" sz="2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Corporate Govern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7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ngsana New"/>
              </a:rPr>
              <a:t>Financial Sector Assessment Program (FSAP)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88000" indent="-288000" algn="ctr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FSAP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เป็นโครงการร่วมระหว่าง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IMF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และ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World Bank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 algn="ctr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วัตถุประสงค์  เพื่อลดโอกาสและความรุนแรงของวิกฤตการณ์ทางการเงิน ตลอดจนผลกระทบต่อประเทศอื่นๆ โดย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14960" indent="-21312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ประเมินจุดอ่อนและจุดแข็งของระบบการเงิ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14960" indent="-21312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ชี้จุดบกพร่องของโครงสร้างพื้นฐานและการกำกับดูแลทางการเงิ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14960" indent="-21312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ให้ความช่วยเหลือในการกำหนดนโยบายที่เหมาะส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400" spc="-1" strike="noStrike">
                <a:solidFill>
                  <a:srgbClr val="ffffff"/>
                </a:solidFill>
                <a:latin typeface="Arial"/>
              </a:rPr>
              <a:t>กำหนดเวลาการเข้าประเมิน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S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24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2590920"/>
            <a:ext cx="1066680" cy="83808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12-1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cc"/>
                </a:solidFill>
                <a:latin typeface="Browallia New"/>
                <a:cs typeface="Browallia New"/>
              </a:rPr>
              <a:t>ก</a:t>
            </a:r>
            <a:r>
              <a:rPr b="1" lang="th-TH" sz="32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.</a:t>
            </a:r>
            <a:r>
              <a:rPr b="1" lang="th-TH" sz="3200" spc="-1" strike="noStrike">
                <a:solidFill>
                  <a:srgbClr val="0033cc"/>
                </a:solidFill>
                <a:latin typeface="Browallia New"/>
                <a:cs typeface="Browallia New"/>
              </a:rPr>
              <a:t>ค</a:t>
            </a:r>
            <a:r>
              <a:rPr b="1" lang="th-TH" sz="32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.4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2590920"/>
            <a:ext cx="990360" cy="838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cc"/>
                </a:solidFill>
                <a:latin typeface="Browallia New"/>
                <a:cs typeface="Browallia New"/>
              </a:rPr>
              <a:t>ก</a:t>
            </a:r>
            <a:r>
              <a:rPr b="1" lang="th-TH" sz="32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.</a:t>
            </a:r>
            <a:r>
              <a:rPr b="1" lang="th-TH" sz="3200" spc="-1" strike="noStrike">
                <a:solidFill>
                  <a:srgbClr val="0033cc"/>
                </a:solidFill>
                <a:latin typeface="Browallia New"/>
                <a:cs typeface="Browallia New"/>
              </a:rPr>
              <a:t>พ</a:t>
            </a:r>
            <a:r>
              <a:rPr b="1" lang="th-TH" sz="32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.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2590920"/>
            <a:ext cx="1143000" cy="838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rdia New"/>
                <a:ea typeface="Cordia New"/>
              </a:rPr>
              <a:t>  </a:t>
            </a:r>
            <a:r>
              <a:rPr b="1" lang="th-TH" sz="3200" spc="-1" strike="noStrike">
                <a:solidFill>
                  <a:srgbClr val="0033cc"/>
                </a:solidFill>
                <a:latin typeface="Browallia New"/>
                <a:cs typeface="Browallia New"/>
              </a:rPr>
              <a:t>พ</a:t>
            </a:r>
            <a:r>
              <a:rPr b="1" lang="th-TH" sz="32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.</a:t>
            </a:r>
            <a:r>
              <a:rPr b="1" lang="th-TH" sz="3200" spc="-1" strike="noStrike">
                <a:solidFill>
                  <a:srgbClr val="0033cc"/>
                </a:solidFill>
                <a:latin typeface="Browallia New"/>
                <a:cs typeface="Browallia New"/>
              </a:rPr>
              <a:t>ค</a:t>
            </a:r>
            <a:r>
              <a:rPr b="1" lang="th-TH" sz="32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.50</a:t>
            </a:r>
            <a:r>
              <a:rPr b="1" lang="en-US" sz="3200" spc="-1" strike="noStrike">
                <a:solidFill>
                  <a:srgbClr val="0033cc"/>
                </a:solidFill>
                <a:latin typeface="Cordia New"/>
                <a:ea typeface="Cordia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2590920"/>
            <a:ext cx="1150920" cy="8380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cc"/>
                </a:solidFill>
                <a:latin typeface="Browallia New"/>
                <a:cs typeface="Browallia New"/>
              </a:rPr>
              <a:t>มิ</a:t>
            </a:r>
            <a:r>
              <a:rPr b="1" lang="th-TH" sz="32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.</a:t>
            </a:r>
            <a:r>
              <a:rPr b="1" lang="th-TH" sz="3200" spc="-1" strike="noStrike">
                <a:solidFill>
                  <a:srgbClr val="0033cc"/>
                </a:solidFill>
                <a:latin typeface="Browallia New"/>
                <a:cs typeface="Browallia New"/>
              </a:rPr>
              <a:t>ย</a:t>
            </a:r>
            <a:r>
              <a:rPr b="1" lang="th-TH" sz="32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.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2590920"/>
            <a:ext cx="1136520" cy="79200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cc"/>
                </a:solidFill>
                <a:latin typeface="Browallia New"/>
                <a:cs typeface="Browallia New"/>
              </a:rPr>
              <a:t>ก</a:t>
            </a:r>
            <a:r>
              <a:rPr b="1" lang="th-TH" sz="32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.</a:t>
            </a:r>
            <a:r>
              <a:rPr b="1" lang="th-TH" sz="3200" spc="-1" strike="noStrike">
                <a:solidFill>
                  <a:srgbClr val="0033cc"/>
                </a:solidFill>
                <a:latin typeface="Browallia New"/>
                <a:cs typeface="Browallia New"/>
              </a:rPr>
              <a:t>ย</a:t>
            </a:r>
            <a:r>
              <a:rPr b="1" lang="th-TH" sz="32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.</a:t>
            </a:r>
            <a:r>
              <a:rPr b="1" lang="en-US" sz="32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32000" y="3645000"/>
            <a:ext cx="1868400" cy="1584360"/>
          </a:xfrm>
          <a:custGeom>
            <a:avLst/>
            <a:gdLst>
              <a:gd name="textAreaLeft" fmla="*/ 0 w 1868400"/>
              <a:gd name="textAreaRight" fmla="*/ 1868760 w 18684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rdia New"/>
                <a:ea typeface="Cordia New"/>
              </a:rPr>
              <a:t>     </a:t>
            </a:r>
            <a:r>
              <a:rPr b="1" lang="en-US" sz="28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Pre-FS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3645000"/>
            <a:ext cx="1828800" cy="15843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rdia New"/>
                <a:ea typeface="Cordia New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Angsana New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1st FS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        </a:t>
            </a:r>
            <a:r>
              <a:rPr b="1" lang="en-US" sz="24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67280" y="3645000"/>
            <a:ext cx="1800000" cy="158436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rdia New"/>
                <a:ea typeface="Cordia New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Angsana New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2nd FS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        </a:t>
            </a:r>
            <a:r>
              <a:rPr b="1" lang="en-US" sz="24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0" y="3645000"/>
            <a:ext cx="1944720" cy="159372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rdia New"/>
                <a:ea typeface="Cordia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rdia New"/>
                <a:ea typeface="Cordia New"/>
              </a:rPr>
              <a:t>    </a:t>
            </a:r>
            <a:r>
              <a:rPr b="1" lang="en-US" sz="28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Article 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    </a:t>
            </a:r>
            <a:r>
              <a:rPr b="1" lang="en-US" sz="28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Mission</a:t>
            </a:r>
            <a:r>
              <a:rPr b="1" lang="en-US" sz="3200" spc="-1" strike="noStrike">
                <a:solidFill>
                  <a:srgbClr val="0033cc"/>
                </a:solidFill>
                <a:latin typeface="Cordia New"/>
                <a:ea typeface="Cordia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ngsana New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ngsana New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04000" y="3645000"/>
            <a:ext cx="1935360" cy="1600200"/>
          </a:xfrm>
          <a:custGeom>
            <a:avLst/>
            <a:gdLst>
              <a:gd name="textAreaLeft" fmla="*/ 0 w 1935360"/>
              <a:gd name="textAreaRight" fmla="*/ 1935720 w 193536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rdia New"/>
                <a:ea typeface="Cordia New"/>
              </a:rPr>
              <a:t>     </a:t>
            </a:r>
            <a:r>
              <a:rPr b="1" lang="en-US" sz="28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IMF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   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      </a:t>
            </a:r>
            <a:r>
              <a:rPr b="1" lang="en-US" sz="28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2590920"/>
            <a:ext cx="990720" cy="83808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cc"/>
                </a:solidFill>
                <a:latin typeface="Browallia New"/>
                <a:cs typeface="Browallia New"/>
              </a:rPr>
              <a:t>ปี </a:t>
            </a:r>
            <a:r>
              <a:rPr b="1" lang="th-TH" sz="32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46-4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3645000"/>
            <a:ext cx="1656000" cy="15843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      </a:t>
            </a:r>
            <a:r>
              <a:rPr b="1" lang="en-US" sz="28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Prepare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rowallia New"/>
                <a:ea typeface="Browallia New"/>
              </a:rPr>
              <a:t>FS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400" spc="-1" strike="noStrike">
                <a:solidFill>
                  <a:srgbClr val="ccecff"/>
                </a:solidFill>
                <a:latin typeface="Angsana New"/>
              </a:rPr>
              <a:t>การเตรียมความพร้อมด้าน </a:t>
            </a:r>
            <a:r>
              <a:rPr b="1" i="1" lang="en-US" sz="4400" spc="-1" strike="noStrike">
                <a:solidFill>
                  <a:srgbClr val="ccecff"/>
                </a:solidFill>
                <a:latin typeface="Angsana New"/>
              </a:rPr>
              <a:t>AML/CF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176560"/>
            <a:ext cx="86868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80800" indent="-28080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คณะทำงานเตรียมความพร้อมโครงการ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ROSCs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ด้าน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AML/CF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0800" indent="-28080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จัดประชุมชี้แจงแก่หน่วยงานที่เกี่ยวข้อ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0800" indent="-28080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ขอรับความช่วยเหลือจากองค์กรต่างประเท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0800" indent="-28080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แก้ไขกฎหมาย ระเบียบ และหลักเกณฑ์ที่เกี่ยวข้อ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0800" indent="-28080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เตรียมเอกสารหลักฐานที่เกี่ยวข้องกับการประเมิน และแปลเป็นภาษาอังกฤ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0800" indent="-28080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จัดทำแบบประเมินตนเอง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(Self Assessment)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ตามแบบสอบถามของ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IM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ccecff"/>
                </a:solidFill>
                <a:latin typeface="Angsana New"/>
              </a:rPr>
              <a:t>ประโยชน์ของการประเมินตามโครงการ</a:t>
            </a:r>
            <a:r>
              <a:rPr b="1" i="1" lang="en-US" sz="4800" spc="-1" strike="noStrike">
                <a:solidFill>
                  <a:srgbClr val="ccecff"/>
                </a:solidFill>
                <a:latin typeface="Angsana New"/>
              </a:rPr>
              <a:t> </a:t>
            </a:r>
            <a:r>
              <a:rPr b="1" i="1" lang="en-US" sz="4800" spc="-1" strike="noStrike">
                <a:solidFill>
                  <a:srgbClr val="ccecff"/>
                </a:solidFill>
                <a:latin typeface="Angsana New"/>
              </a:rPr>
              <a:t>ROSC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สร้างความแข็งแกร่งและความมีเสถียรภาพทางเศรษฐกิจ และการเงินของประเท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6960" indent="-24696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ลดผลกระทบจากปัจจัยภายนอกประเท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6960" indent="-24696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เพื่อให้ประเทศไทยได้เข้าเป็นสมาชิก องค์กร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FATF (Financial Action Task Force on Money Laundering)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ซึ่งเป็นองค์กรระดับรัฐบาล </a:t>
            </a:r>
            <a:br>
              <a:rPr sz="3200"/>
            </a:b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ที่กำหนดมาตรฐาน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,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พัฒนา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,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ส่งเสริมนโยบายเพื่อต่อสู้กับการฟอกเงิน และการสนับสนุนทางการเงินแก่การก่อการร้าย ในปี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2549 – 255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ในปัจจุบันมีสมาชิก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33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ประเทศ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ขึ้นอยู่กับการพิจารณาของรัฐบาล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)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6960" indent="-24696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เพื่อลดโอกาสในการก่ออาชญากรรมทางการเงิน การฟอกเงิน การทุจริต และการก่อการร้ายในประเทศต่าง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000" spc="-1" strike="noStrike">
                <a:solidFill>
                  <a:srgbClr val="ccecff"/>
                </a:solidFill>
                <a:latin typeface="Arial"/>
              </a:rPr>
              <a:t>ผลกระทบ</a:t>
            </a: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/</a:t>
            </a:r>
            <a:r>
              <a:rPr b="1" i="1" lang="hi-IN" sz="4000" spc="-1" strike="noStrike">
                <a:solidFill>
                  <a:srgbClr val="ccecff"/>
                </a:solidFill>
                <a:latin typeface="Arial"/>
              </a:rPr>
              <a:t>ผลเสีย</a:t>
            </a:r>
            <a:br>
              <a:rPr sz="4000"/>
            </a:br>
            <a:r>
              <a:rPr b="1" i="1" lang="hi-IN" sz="4000" spc="-1" strike="noStrike">
                <a:solidFill>
                  <a:srgbClr val="ccecff"/>
                </a:solidFill>
                <a:latin typeface="Arial"/>
              </a:rPr>
              <a:t>หากไม่ให้ความร่วมมือในโครงการฯ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 algn="ctr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หากไม่ผ่านการประเมินอาจจะถูกจัดอยู่ในกลุ่มประเทศที่ไม่ให้ความร่วมมือ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(Non-Cooperative Countries and Territories : NCCT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50200" indent="-250200" algn="ctr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ประเทศจะมีภาพพจน์ในทางลบต่อสายตาประชาคมโล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50200" indent="-250200" algn="ctr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อาจจะไม่สามารถทำธุรกรรมทางการเงินระหว่างประเทศกับบางประเทศ อาทิเช่น สหรัฐฯ โดยสหรัฐ ได้ห้ามสถาบันการเงินของตนมิให้ทำธุรกรรมทางการเงินกับประเทศที่ไม่ได้มาตรฐานสากลด้าน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AML/CFT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หากฝ่าฝืนธนาคารของสหรัฐฯ </a:t>
            </a:r>
            <a:br>
              <a:rPr sz="2800"/>
            </a:b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จะถูกปรับวันละ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10,000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ดอลล่าร์สหรัฐฯ จนกว่าจะยุติความสัมพันธ์ดังกล่า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50200" indent="-250200" algn="ctr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เพิ่มภาระ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ต้นทุนให้กับสังคม เศรษฐกิจ และปัจเจกชนในการติดต่อสื่อสาร เดินทาง หรือประกอบธุรกิจทางการเงิน หรือในด้านต่างๆ ที่เกี่ยวข้อ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50200" indent="-250200" algn="ctr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อาจไม่ได้รับความช่วยเหลือทางวิชาการจากองค์กรระหว่างประเทศเพื่อ</a:t>
            </a:r>
            <a:br>
              <a:rPr sz="2800"/>
            </a:b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การพัฒนาประเทศ รวมทั้งอาจได้รับผลกระทบจากการถูกตอบโต้โดยใช้มาตรการทางเศรษฐกิจ หรือทางการเงิ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400" spc="-1" strike="noStrike">
                <a:solidFill>
                  <a:srgbClr val="ccecff"/>
                </a:solidFill>
                <a:latin typeface="Angsana New"/>
              </a:rPr>
              <a:t>ปัญหาและอุปสรรคในการเข้ารับการประเมิน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การแก้ไข ปรับปรุง กฎหมาย หลักเกณฑ์ กฎ ระเบียบ ตลอดจนแนวทางปฏิบัติของหน่วยต่างๆ ทั้งภาครัฐ และเอกชนค่อนข้างล่าช้า นอกจากนี้ในบางแห่งยังขาดความรู้ ความเข้าใจในระบบกฎหมายสากล หรือพันธกรณีสากลที่เกี่ยวข้อ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74320" indent="-2743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หน่วยงานที่เกี่ยวข้องบางแห่งยังไม่ให้ความสำคัญ ตลอดจนยังไม่ทราบบทบาท และหน้าที่ในการให้ความร่วมมือด้านการป้องกันปราบปรามการฟอกเงิน และการต่อต้านการสนับสนุนทางการเงินแก่การก่อการร้า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74320" indent="-2743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หน่วยงานในภาคเอกชนต้องการการสนับสนุนจากภาครัฐในหลายส่วน เช่น การประชาสัมพันธ์มาตรการที่จะนำมาบังคับใช้ หรือแนวทางในการนำเทคโนโลยีสารสนเทศมาสนับสนุนการดำเนินงาน การสร้างฐานข้อมูลกลางเพื่อสนับสนุนการปฏิบัติตามมาตรการสากล เป็นต้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03:09:02Z</dcterms:created>
  <dc:creator>Admin</dc:creator>
  <dc:description/>
  <dc:language>en-US</dc:language>
  <cp:lastModifiedBy>taniya</cp:lastModifiedBy>
  <dcterms:modified xsi:type="dcterms:W3CDTF">2007-06-13T03:38:45Z</dcterms:modified>
  <cp:revision>12</cp:revision>
  <dc:subject/>
  <dc:title>การเตรียมความพร้อมในการเข้าร่วมโครงการ ประเมินการปฏิบัติตามมาตรฐานสากล ด้านการต่อต้านการฟอกเงินและการสนับสนุนทางการเงินแก่การก่อการร้าย</dc:title>
</cp:coreProperties>
</file>